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8800425" cy="432006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86000" y="685440"/>
            <a:ext cx="2286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C6CD-31DC-42C2-846A-41D27995BDC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2286000" y="685800"/>
            <a:ext cx="2286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FC3B-9C95-4E85-B7E1-7CA9BF31D0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31F8-8190-48C2-8EE8-3F9AADD81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0000" y="1730520"/>
            <a:ext cx="25920720" cy="71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0000" y="10080720"/>
            <a:ext cx="2592072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0000" y="24972120"/>
            <a:ext cx="2592072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BA95-20DB-4640-8F6F-9229A644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0000" y="1730520"/>
            <a:ext cx="25920720" cy="71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0000" y="10080720"/>
            <a:ext cx="1264896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721840" y="10080720"/>
            <a:ext cx="1264896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0000" y="24972120"/>
            <a:ext cx="1264896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721840" y="24972120"/>
            <a:ext cx="1264896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69F-ED5B-4E14-9602-AB1A02B1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0000" y="1730520"/>
            <a:ext cx="25920720" cy="71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0000" y="10080720"/>
            <a:ext cx="834624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03840" y="10080720"/>
            <a:ext cx="834624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968040" y="10080720"/>
            <a:ext cx="834624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0000" y="24972120"/>
            <a:ext cx="834624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203840" y="24972120"/>
            <a:ext cx="834624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968040" y="24972120"/>
            <a:ext cx="834624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701B-01AB-45B4-8C8C-D53F5406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1730520"/>
            <a:ext cx="25920720" cy="71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0000" y="10080720"/>
            <a:ext cx="25920720" cy="285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75"/>
              </a:spcBef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65F-D582-4BDC-9A24-3EB2DFFB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0000" y="1730520"/>
            <a:ext cx="25920720" cy="71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0000" y="10080720"/>
            <a:ext cx="25920720" cy="28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3C3-F77B-4B79-A8A8-E95B477D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0000" y="1730520"/>
            <a:ext cx="25920720" cy="71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0000" y="10080720"/>
            <a:ext cx="12648960" cy="28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721840" y="10080720"/>
            <a:ext cx="12648960" cy="28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E106-4ECF-4E5A-97D4-E2947A04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0000" y="1730520"/>
            <a:ext cx="25920720" cy="71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483-5C1D-4F2F-A444-082334D7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0000" y="1730520"/>
            <a:ext cx="25920720" cy="333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75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1F9-A19E-4398-B682-E4150A0B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1730520"/>
            <a:ext cx="25920720" cy="71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10080720"/>
            <a:ext cx="1264896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1840" y="10080720"/>
            <a:ext cx="12648960" cy="28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0000" y="24972120"/>
            <a:ext cx="1264896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E46-C99B-43B9-B8C4-F031F0BB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1730520"/>
            <a:ext cx="25920720" cy="71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10080720"/>
            <a:ext cx="12648960" cy="28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1840" y="10080720"/>
            <a:ext cx="1264896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21840" y="24972120"/>
            <a:ext cx="1264896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52D-8018-4004-8416-8F2582D2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1730520"/>
            <a:ext cx="25920720" cy="71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10080720"/>
            <a:ext cx="1264896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721840" y="10080720"/>
            <a:ext cx="1264896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0000" y="24972120"/>
            <a:ext cx="25920720" cy="13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75"/>
              </a:spcBef>
              <a:buNone/>
              <a:tabLst>
                <a:tab algn="l" pos="2879640"/>
                <a:tab algn="l" pos="5759280"/>
                <a:tab algn="l" pos="863928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89E6-A7E5-4E02-BD03-4DC3F92C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0000" y="1730520"/>
            <a:ext cx="25920720" cy="71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0000" y="10080720"/>
            <a:ext cx="25920720" cy="28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79640" indent="-1079640">
              <a:spcBef>
                <a:spcPts val="7875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lvl="1" marL="2340000" indent="-900000">
              <a:spcBef>
                <a:spcPts val="7875"/>
              </a:spcBef>
              <a:buClr>
                <a:srgbClr val="000000"/>
              </a:buClr>
              <a:buFont typeface="Arial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lvl="2" marL="3600360" indent="-720720">
              <a:spcBef>
                <a:spcPts val="7875"/>
              </a:spcBef>
              <a:buClr>
                <a:srgbClr val="000000"/>
              </a:buClr>
              <a:buFont typeface="Arial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lvl="3" marL="5040360" indent="-720720">
              <a:spcBef>
                <a:spcPts val="7875"/>
              </a:spcBef>
              <a:buClr>
                <a:srgbClr val="000000"/>
              </a:buClr>
              <a:buFont typeface="Arial"/>
              <a:buChar char="–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lvl="4" marL="6480000" indent="-720720">
              <a:spcBef>
                <a:spcPts val="7875"/>
              </a:spcBef>
              <a:buClr>
                <a:srgbClr val="000000"/>
              </a:buClr>
              <a:buFont typeface="Arial"/>
              <a:buChar char="»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lvl="5" marL="6480000" indent="-720720">
              <a:spcBef>
                <a:spcPts val="7875"/>
              </a:spcBef>
              <a:buClr>
                <a:srgbClr val="000000"/>
              </a:buClr>
              <a:buFont typeface="Arial"/>
              <a:buChar char="»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lvl="6" marL="6480000" indent="-720720">
              <a:spcBef>
                <a:spcPts val="7875"/>
              </a:spcBef>
              <a:buClr>
                <a:srgbClr val="000000"/>
              </a:buClr>
              <a:buFont typeface="Arial"/>
              <a:buChar char="»"/>
              <a:tabLst>
                <a:tab algn="l" pos="2879640"/>
                <a:tab algn="l" pos="5759280"/>
                <a:tab algn="l" pos="863928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0000" y="39339360"/>
            <a:ext cx="671976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839160" y="39339360"/>
            <a:ext cx="912024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640240" y="39339360"/>
            <a:ext cx="67201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4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A4DC-E3F6-46A1-B220-85200D31F1FD}" type="slidenum">
              <a:rPr b="0" sz="4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74560" y="6189480"/>
            <a:ext cx="26787600" cy="3564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30000"/>
              </a:lnSpc>
              <a:spcBef>
                <a:spcPts val="6301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sz="5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sz="5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sz="8000" spc="-1" strike="noStrike">
                <a:solidFill>
                  <a:srgbClr val="ff0000"/>
                </a:solidFill>
                <a:latin typeface="Arial"/>
              </a:rPr>
              <a:t>该区域内放以下内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项目类型：创新训练项目（创业训练项目或创业实践项目）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项目编号：（须标注国创计划项目编号）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项目简介：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字左右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图片（含图表）：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张，要求有图注（不超过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字）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创新点描述：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字左右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项目成员信息：姓名、年级、专业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项目指导教师信息：姓名、职称、研究方向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立项年份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标志性成果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5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团队成员姓名加粗加下划线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buClr>
                <a:srgbClr val="000000"/>
              </a:buClr>
              <a:buFont typeface="宋体"/>
              <a:buChar char="•"/>
              <a:tabLst>
                <a:tab algn="l" pos="2879640"/>
                <a:tab algn="l" pos="5759280"/>
                <a:tab algn="l" pos="8639280"/>
              </a:tabLst>
            </a:pP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获奖时间、获奖项目名、科创竞赛名称、获奖级别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例：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2017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5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吴</a:t>
            </a:r>
            <a:r>
              <a:rPr b="1" lang="en-US" sz="5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xx</a:t>
            </a:r>
            <a:r>
              <a:rPr b="1" lang="zh-CN" sz="5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张</a:t>
            </a:r>
            <a:r>
              <a:rPr b="1" lang="en-US" sz="5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xx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光伏电板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，第三届互联网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大赛，</a:t>
            </a:r>
            <a:r>
              <a:rPr b="1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校赛二等奖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② 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所有作者、篇名、杂志、年卷期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例：</a:t>
            </a:r>
            <a:r>
              <a:rPr b="1" lang="en-US" sz="5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xxx</a:t>
            </a:r>
            <a:r>
              <a:rPr b="1" lang="en-US" sz="5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Li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xx Zhu, xxx Liang, xxx Su, xxx Yin, xxx Hu, xxx Lan, xxx Wu*, xxx You*, An unusual [4+2] fusion strategy to forge </a:t>
            </a:r>
            <a:r>
              <a:rPr b="0" i="1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o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/O-heteroarene-fused (quinoidal) porphyrins with intense near-infrared Q-bands. </a:t>
            </a:r>
            <a:r>
              <a:rPr b="1" i="1" lang="en-US" sz="5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hem. Sci.</a:t>
            </a:r>
            <a:r>
              <a:rPr b="1" lang="en-US" sz="5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2019,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30), 7274−7280.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③ 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申请或提交专利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例：吴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xx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5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章</a:t>
            </a:r>
            <a:r>
              <a:rPr b="1" lang="en-US" sz="5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xx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兰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xx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杨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xx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、梁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xx. 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一种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3,5-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二苯并咪唑基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-8-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对氰基苯基氟硼荧类衍生物及其制备方法和应用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专利号：</a:t>
            </a:r>
            <a:r>
              <a:rPr b="1" lang="en-US" sz="5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ZL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201810125399.4 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申请日：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2018-02-07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；授权公告日：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2020-08-11</a:t>
            </a:r>
            <a:r>
              <a:rPr b="0" lang="zh-CN" sz="5600" spc="-1" strike="noStrike">
                <a:solidFill>
                  <a:srgbClr val="000000"/>
                </a:solidFill>
                <a:latin typeface="黑体"/>
                <a:ea typeface="黑体"/>
              </a:rPr>
              <a:t>；分类号：</a:t>
            </a:r>
            <a:r>
              <a:rPr b="0" lang="en-US" sz="5600" spc="-1" strike="noStrike">
                <a:solidFill>
                  <a:srgbClr val="000000"/>
                </a:solidFill>
                <a:latin typeface="黑体"/>
                <a:ea typeface="黑体"/>
              </a:rPr>
              <a:t>C07F5/02(2006.01)I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99"/>
              </a:spcBef>
              <a:tabLst>
                <a:tab algn="l" pos="0"/>
                <a:tab algn="l" pos="2879640"/>
                <a:tab algn="l" pos="5759280"/>
                <a:tab algn="l" pos="863928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8664480" y="3975120"/>
            <a:ext cx="64566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全称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5" descr=""/>
          <p:cNvPicPr/>
          <p:nvPr/>
        </p:nvPicPr>
        <p:blipFill>
          <a:blip r:embed="rId1"/>
          <a:stretch/>
        </p:blipFill>
        <p:spPr>
          <a:xfrm>
            <a:off x="1225440" y="285840"/>
            <a:ext cx="2229120" cy="2232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7" descr=""/>
          <p:cNvPicPr/>
          <p:nvPr/>
        </p:nvPicPr>
        <p:blipFill>
          <a:blip r:embed="rId2"/>
          <a:stretch/>
        </p:blipFill>
        <p:spPr>
          <a:xfrm>
            <a:off x="4451400" y="212760"/>
            <a:ext cx="2747880" cy="259236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3" descr=""/>
          <p:cNvPicPr/>
          <p:nvPr/>
        </p:nvPicPr>
        <p:blipFill>
          <a:blip r:embed="rId3"/>
          <a:stretch/>
        </p:blipFill>
        <p:spPr>
          <a:xfrm>
            <a:off x="7407360" y="139680"/>
            <a:ext cx="11466360" cy="19512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5"/>
          <p:cNvSpPr/>
          <p:nvPr/>
        </p:nvSpPr>
        <p:spPr>
          <a:xfrm>
            <a:off x="13679640" y="42368760"/>
            <a:ext cx="151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fbfbf"/>
                </a:solidFill>
                <a:latin typeface="Microsoft Himalaya"/>
                <a:ea typeface="华文楷体"/>
              </a:rPr>
              <a:t>本活动由彩票公益金资助</a:t>
            </a:r>
            <a:r>
              <a:rPr b="0" lang="en-US" sz="4800" spc="-1" strike="noStrike">
                <a:solidFill>
                  <a:srgbClr val="bfbfbf"/>
                </a:solidFill>
                <a:latin typeface="Microsoft Himalaya"/>
                <a:ea typeface="Microsoft Himalaya"/>
              </a:rPr>
              <a:t>-</a:t>
            </a:r>
            <a:r>
              <a:rPr b="0" lang="zh-CN" sz="4800" spc="-1" strike="noStrike">
                <a:solidFill>
                  <a:srgbClr val="bfbfbf"/>
                </a:solidFill>
                <a:latin typeface="Microsoft Himalaya"/>
                <a:ea typeface="华文楷体"/>
              </a:rPr>
              <a:t>中国福利彩票和中国体育彩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1376000" y="2016000"/>
            <a:ext cx="88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7f7f7f"/>
                </a:solidFill>
                <a:latin typeface="华文楷体"/>
                <a:ea typeface="华文楷体"/>
              </a:rPr>
              <a:t>西部双创示范基地联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4"/>
          <a:stretch/>
        </p:blipFill>
        <p:spPr>
          <a:xfrm>
            <a:off x="17519760" y="96840"/>
            <a:ext cx="517500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5T01:00:45Z</dcterms:created>
  <dc:creator>Administrator</dc:creator>
  <dc:description/>
  <dc:language>en-US</dc:language>
  <cp:lastModifiedBy>dell</cp:lastModifiedBy>
  <dcterms:modified xsi:type="dcterms:W3CDTF">2020-09-24T02:06:16Z</dcterms:modified>
  <cp:revision>30</cp:revision>
  <dc:subject/>
  <dc:title>项目全称和LOGO  项目/企业使命（限1行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